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3F4D-0C67-4596-99D4-C322DE7A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3754-C3B8-493F-BB3B-DE9B91A6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CDD-5A67-4D8E-80EC-87E6F37E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3DB9-3BEF-466E-9D1A-0561864A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21B8-E6A1-4904-9ADD-6A7E5E48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26E7-357B-4F37-848B-BDEC2C14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401-8CEC-4F9D-9855-E3815BA2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5737-B5D5-40D9-A686-0F4210E4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E760-17D8-41DC-A70E-4FB3D0F7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E839-DFAF-48BE-B70C-1ACF766A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97C1-79D1-4861-885D-0B3D1DA1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6BCC-8571-4506-A0F4-114E245D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CE71-1235-43EA-A219-9AC6E3CE1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iorities and Conc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mber 19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Software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reasonable inventory of licenses for users (request requisi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not able to keep track of lic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not able to maintain license server (SP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to request site licensing is slow (Mathematica, Minita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, UTEP licensing of Micros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Licensing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a softwar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software applications for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 beneficial site lic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accessibility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Audio Vis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lassrooms wit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more work to take movable projectors to class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essary to facilitate teac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 Goldmine/Ban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Banner programming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accurate Banner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t Bann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rtium for end-user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P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V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formation such as: after hours support hours, and system down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from 3 colleges and administrative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egory Pri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Desk/IT Custome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Licen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o Vis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mine/B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E-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file system (duplicate docu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d to send attachments by information technology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red method to share files between the campu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: Insufficient Qu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lMine: Not transperent to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Mail: Will it be better for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Help Desk/Customer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lp desk is the first contact with the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lp desk should take ownership of each call and follow until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r should hold the help desk accountable for the satisfaction level of the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p De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be certified in basic computer skills to solve the problem without passing the call to second level support every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desk call tracking and communicate with user can improve customer re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desk should not assume that all is working because the help desk computer is wor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mer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 time is slow, a week is too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level support has to get back with the users until problem is res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plan to improve the imag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a Long-term plan to improv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Wirel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slow 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 to wireles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mpleted or un-configured access points on cam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ID not advertised to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utilized to its potential because of configuration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fficient man power to manage wir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Novick’s presentation to D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us Director of Web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s names are hard to 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tudent Web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IT coordination of technical features, content, and implementation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team is always too bu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nation of Networking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gabyte connection to deskt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data ports is not 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PN should be accessible to all including students without having to active a VPN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te and reliable inventory of data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slow someti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se</cp:lastModifiedBy>
  <dcterms:modified xsi:type="dcterms:W3CDTF">2006-12-19T18:13:5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