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C42-7235-45F9-A4A9-692C56C9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C40-CF85-4A1D-96E7-E2856CA4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5F6-5FD1-4D40-A47B-3A5CB096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50F-AD0C-440B-873E-0F717940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13F-D867-4A52-BE0E-90C98E7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297-FF34-410D-8D5B-F45D2437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644-D11A-478D-B12D-59290AAF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BF9-EE27-40F9-AB15-CAD35A25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0C4-9511-4FC9-BA43-170465B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283-D573-498A-88DC-CF1A1C4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D5E-62C3-4465-A168-484A6FA3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0BD-9DA9-4C17-B4AF-7835BD58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9B0-87AB-43E3-B28C-DC51C3FDF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Mail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hgiza@utep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" y="76320"/>
            <a:ext cx="8877600" cy="5794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3440" y="6284880"/>
            <a:ext cx="82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ttably, after re-starting Outlook, selecting messages for migration still f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8061000">
            <a:off x="6476760" y="323856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7466400">
            <a:off x="2895480" y="304776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2680" y="380880"/>
            <a:ext cx="8917200" cy="579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6172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tried “multiple select” (such as selecting all messages older than Jan 1, 2005), to no 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solve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mine did not “take”, and older items are not being arch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hgiza’s mail remains woefully over limit…s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ine materials to enable this useful function seem inadequate to solve the problem – and it is a problem many (most?) faculty need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960" y="95400"/>
            <a:ext cx="8344080" cy="600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2240" y="621648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UTEP’s MailMine site, and the HELP desk’s telephone instructions to access and install the Outlook add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33880" cy="2667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53000" y="914400"/>
            <a:ext cx="5391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6105240" cy="229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105800">
            <a:off x="3276720" y="91404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8280" y="31608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ed zip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in, and extract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144800">
            <a:off x="1977480" y="3903480"/>
            <a:ext cx="3276720" cy="381240"/>
          </a:xfrm>
          <a:prstGeom prst="rightArrow">
            <a:avLst>
              <a:gd name="adj1" fmla="val 50000"/>
              <a:gd name="adj2" fmla="val 214873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000" y="619200"/>
            <a:ext cx="8658000" cy="561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4360" y="189000"/>
            <a:ext cx="59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 am seeking to overco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94000">
            <a:off x="4586400" y="861480"/>
            <a:ext cx="1573200" cy="381240"/>
          </a:xfrm>
          <a:prstGeom prst="rightArrow">
            <a:avLst>
              <a:gd name="adj1" fmla="val 50000"/>
              <a:gd name="adj2" fmla="val 103163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5080" y="6262560"/>
            <a:ext cx="72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I usually use WebMail, I did this from my Outlook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105600" cy="319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6105600" cy="319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3381600">
            <a:off x="1640880" y="3006720"/>
            <a:ext cx="3346560" cy="381240"/>
          </a:xfrm>
          <a:prstGeom prst="rightArrow">
            <a:avLst>
              <a:gd name="adj1" fmla="val 50000"/>
              <a:gd name="adj2" fmla="val 219452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3618000"/>
            <a:ext cx="222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tionary 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users know how to install MSI packages, (right-clicking and choosing “install” is the most common approa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s to install ar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304920"/>
            <a:ext cx="230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sers may not have the appropriate installation permissions on their computers – adding a burden to the user.  In the online info at UTEP IT this potential glitch is not addr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819680" cy="373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4819680" cy="373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426708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proceeded normal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d closed Outlook during the installation, of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1968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4819680" cy="373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040" y="422748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on locations, etc.  The package picked up the computer name appropriate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19680" cy="373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4819680" cy="3733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9964200">
            <a:off x="3649320" y="1617480"/>
            <a:ext cx="1619280" cy="380880"/>
          </a:xfrm>
          <a:prstGeom prst="rightArrow">
            <a:avLst>
              <a:gd name="adj1" fmla="val 50000"/>
              <a:gd name="adj2" fmla="val 106285"/>
            </a:avLst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18280" y="189000"/>
            <a:ext cx="352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 DO use .pst folders, and as a test of concept, I disregarded my original “disable Outlook’s AutoArchive features, and UNCHECKED this box before proceeding) possible gli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1968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81968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819680" cy="3733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0" y="79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voi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7:02:00Z</dcterms:created>
  <dc:creator>bhgiza</dc:creator>
  <dc:description/>
  <dc:language>en-US</dc:language>
  <cp:lastModifiedBy>bhgiza</cp:lastModifiedBy>
  <dcterms:modified xsi:type="dcterms:W3CDTF">2006-11-02T18:58:36Z</dcterms:modified>
  <cp:revision>16</cp:revision>
  <dc:subject/>
  <dc:title>Slide 1</dc:title>
</cp:coreProperties>
</file>