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75FAE-09FB-462E-B4B0-66B8CD188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45C7D-B8A1-45A6-B32C-FED1581B7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77FC9-6E80-4359-9635-BCA2A0A28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3A6D1-1E5A-4F04-B2C0-579786A9E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34A92-AE40-4D38-A644-BD4797F82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AF330-6DEB-42D8-BB14-612E6B90C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72F02-6881-444D-8650-0654DB40F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DBFF2-936A-4435-B136-239DCAA70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16491-A57F-4A5D-A4F4-F01DDC3F2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9E8DB-D937-40B1-8F32-F93135B65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7A9D3-63A5-4476-B0D9-0740E034B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9B3B4-6706-412B-9FF4-2D5459790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87EF2-30DF-4086-875B-F17F91383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176B0-FD10-45EE-8EE2-B3E526911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0376E-B52F-406F-AB55-B1DE80830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950CA-A1C8-4D11-8C25-05433E5C9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FE5BD-5491-44E9-B7C0-C556ED41C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C6AC7-5687-46AB-BBD0-599DA10C8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AADFB-8813-4573-BE82-A81518F80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5ACB7-803D-4F70-BDFC-8647A3564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6C0E3-0A24-44DB-BD3C-153CA8872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85C75-27C1-4370-9B8D-F5230BC83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0554F-53C2-4214-98A5-6CE52F6CC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E8816-85E3-40CC-AEA0-F8FDD39FF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94386-B3EA-43D5-AE5A-9CD9BF1596A6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CFF8F-C4FB-4949-82D3-EDBBA11A6DB5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Faculty Senate Information Technologies Committee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May 13, 2008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ast FSIT Topic Discussion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ebCT migration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eployment of additional dissemination avenu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ellular text messages, Video board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llaboration with Teaching effectivenes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nline evaluations, Anti-plagiarism software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Faculty needs and concerns survey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formation needed to identify major issues that require attention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t is not the day to day operation but areas with strategic impac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emand special allocation of resource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stablish a periodic procedure to collect and update the information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How it will be collecte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80010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Technology Implementation Managers (TIMs) will help us in the data collection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espond to a simple e-mail to identify topic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lease try to categorize the topic and identify the level of impact (Faculty, Department, College, etc.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IMs will help the FSIT to separate normal requests and classify them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SIT members will obtain additional feedback on the top issues to prioritize them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hen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xpect first e-mail in the next couple of week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tention to make it periodic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t least twice per academic year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Virgilio</cp:lastModifiedBy>
  <dcterms:modified xsi:type="dcterms:W3CDTF">2008-05-13T19:57:18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