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234-A842-4238-B266-65DB400D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2D6-FCD8-42D5-9A3A-CDB4E46C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F9A-09F6-43FE-AC6B-7E9CB95F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92C-EDF9-4C14-82D1-9CBE7804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DBE-B1BE-4F28-9100-BC9E32C7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D55-F511-4374-9BE6-0FFDBBF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C87-4BA6-4305-80EE-7AAF05A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A2A-3FC5-4C14-B4C6-35E20B4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968-762C-45E5-9C74-9108BD0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569-7D31-4A33-BC33-328CC60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562-71AE-4D6B-A27E-7B555D0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1BB-7ACB-4037-A61D-4F40CE1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AC06-0A66-43C8-BF2E-C9A22041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EP Website Policy &amp; Guide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8920" y="1828800"/>
          <a:ext cx="88884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28800"/>
                    <a:ext cx="8888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21240" y="6553080"/>
            <a:ext cx="736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upon a planning draft from the March 18, 2008 Meeting of the working group (Novick, Batten, Pierce, &amp; Giz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33:24Z</dcterms:created>
  <dc:creator>DEFAULT</dc:creator>
  <dc:description/>
  <dc:language>en-US</dc:language>
  <cp:lastModifiedBy>DEFAULT</cp:lastModifiedBy>
  <dcterms:modified xsi:type="dcterms:W3CDTF">2008-03-19T15:40:13Z</dcterms:modified>
  <cp:revision>4</cp:revision>
  <dc:subject/>
  <dc:title>UTEP Website Policy &amp; Guidelines </dc:title>
</cp:coreProperties>
</file>